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2EF9A-3038-4E8D-98BB-62CAC123A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3AD8A-91FE-4BD9-A68C-881F55D1A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E5FC2-67E8-40C0-89DA-31C5F21E0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75591-4FB2-45B4-A0B3-0B5F48A02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54B98-4407-434D-9CCC-E99D88AF1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3D99B-9D1E-436A-A0DC-45BA00BFA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B859D-11B5-406E-92B2-6B35D04A8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CCEAD-E029-41B4-9AB6-AC992B006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E9CCF-9513-45FB-A27F-59A2BA0B4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13E0A-5665-4E7D-A2A7-AD5CE9548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7748C-6773-4660-A3C0-9CB2EC45A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25C8B-83D3-4799-A40E-DE9B1C45A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1C140-85A4-4809-ADED-BBD75B351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86316-552C-41FB-848B-65A4F10CB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736F3-EEFC-4CB0-AACD-948C47ACE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BA7E8-96DF-423C-AB0F-A33A98CA3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0EA5A-94DA-46F7-87B1-97C03D2DA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122D9F-8236-46B6-A3C0-DEB4D1FEF3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79978-225E-4196-AA7B-11BA990DB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C48820-928F-437A-84A2-86FD155BA5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6660B-7427-49BF-A3BA-2B65059F47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22B9AD-70DB-4050-BB41-C8A86DB40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C5182-E530-4882-8007-DE117651E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DA537B-ADB5-4C2F-90CF-95CB36994D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17C5D-FB21-4FE4-88C0-3E66B0721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5F0C0-9EB9-4EC0-82BB-B97FF91F4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CED73-7106-485F-83C7-7AFDFCBDC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EA4EB-9DCC-433A-8A20-A479DC09C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0A1009-F5E5-4C3E-B979-630138A75F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7AD352-6E38-4440-B505-203192596A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C5D27F-E867-49F8-90C8-CBCC18DB3E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A37330-1CF1-4DE0-9C91-B6997F15B6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92F22D-4FFC-4E02-9CB6-3B27E7312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1DABD-1617-4025-957B-9CAB676BA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26A0C-D129-44B7-B69C-FAF9A8C663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A11688-B32B-40A6-B224-9766EFE1A1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8AFB23-775F-43E3-81C2-81FCEB17E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2CE4A-C335-43DF-85DA-790315D69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F0EC75-FFEB-4A33-B2B3-70AA7EBDD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B65D0-DA0B-4461-A42E-7FC8A3405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A82B7E-F42D-477A-9A6A-FDC977B86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C1A13C-EEF6-437D-B84A-009EFDF118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4012DE-0BD8-45AB-A896-5AEDD77B4A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F02CA-96A2-4551-885B-200C775B1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F994E-6DB2-4937-83E8-B98FA1CCD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05494-1E6F-4AAC-8F31-E261BA63C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966A-D8DA-40B2-AF5C-9314B6088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4F2A1-DC71-4C4B-B771-44CD37009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6803-32C1-4157-823B-949D81AEC40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Freeform 12"/>
            <p:cNvGrpSpPr/>
            <p:nvPr/>
          </p:nvGrpSpPr>
          <p:grpSpPr>
            <a:xfrm>
              <a:off x="-19080" y="248040"/>
              <a:ext cx="9181080" cy="565200"/>
              <a:chOff x="-19080" y="248040"/>
              <a:chExt cx="9181080" cy="565200"/>
            </a:xfrm>
          </p:grpSpPr>
          <p:pic>
            <p:nvPicPr>
              <p:cNvPr id="58" name="Freeform 12" descr=""/>
              <p:cNvPicPr/>
              <p:nvPr/>
            </p:nvPicPr>
            <p:blipFill>
              <a:blip r:embed="rId4"/>
              <a:stretch/>
            </p:blipFill>
            <p:spPr>
              <a:xfrm>
                <a:off x="-3240" y="248040"/>
                <a:ext cx="9165240" cy="565200"/>
              </a:xfrm>
              <a:prstGeom prst="rect">
                <a:avLst/>
              </a:prstGeom>
              <a:ln w="0">
                <a:noFill/>
              </a:ln>
            </p:spPr>
          </p:pic>
          <p:sp>
            <p:nvSpPr>
              <p:cNvPr id="59"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C27B-0D0D-47CB-B000-5DB62FBD309E}"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Freeform 12"/>
            <p:cNvGrpSpPr/>
            <p:nvPr/>
          </p:nvGrpSpPr>
          <p:grpSpPr>
            <a:xfrm>
              <a:off x="-19080" y="248040"/>
              <a:ext cx="9181080" cy="565200"/>
              <a:chOff x="-19080" y="248040"/>
              <a:chExt cx="9181080" cy="565200"/>
            </a:xfrm>
          </p:grpSpPr>
          <p:pic>
            <p:nvPicPr>
              <p:cNvPr id="109" name="Freeform 12" descr=""/>
              <p:cNvPicPr/>
              <p:nvPr/>
            </p:nvPicPr>
            <p:blipFill>
              <a:blip r:embed="rId4"/>
              <a:stretch/>
            </p:blipFill>
            <p:spPr>
              <a:xfrm>
                <a:off x="-3240" y="248040"/>
                <a:ext cx="9165240" cy="565200"/>
              </a:xfrm>
              <a:prstGeom prst="rect">
                <a:avLst/>
              </a:prstGeom>
              <a:ln w="0">
                <a:noFill/>
              </a:ln>
            </p:spPr>
          </p:pic>
          <p:sp>
            <p:nvSpPr>
              <p:cNvPr id="110"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7968-536E-4487-9DE2-A426A2AAB0C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4"/>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Right Triangle 15"/>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6"/>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8"/>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4A65-81C2-4982-BBD4-E0B5365EDE8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a:t>
            </a:r>
            <a:r>
              <a:rPr b="0" lang="sr-RS" sz="2800" spc="-1" strike="noStrike">
                <a:solidFill>
                  <a:srgbClr val="04617b"/>
                </a:solidFill>
                <a:latin typeface="Calibri"/>
              </a:rPr>
              <a:t>стоматолог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мет: Енглески језик</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авач: Душица Лазић</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ion:</a:t>
            </a:r>
            <a:endParaRPr b="0" lang="en-US" sz="2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nstantia"/>
              </a:rPr>
              <a:t>Превести краћи стручни текст на енглески језик.</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9"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1"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Dental Caries</a:t>
            </a:r>
            <a:endParaRPr b="0" lang="en-US" sz="28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ntal caries, also described as tooth decay, is an infectious disease which damages the structures of teeth. If left untreated, the disease can lead to pain, tooth loss, infection, and , in severe cases, death. There is a long history of dental caries, with evidence showing the disease was present in the Bronze, Iron, and Medieval ages but also prior to the neolithic period. The largest increases in the prevalence of caries have been associated with diet changes. Today, it remains one of the most common diseases throughout the world. There are numerous ways to classify dental caries. Although the presentation may differ, the risk factors and development among distinct types of caries remain largely similar. Initially, it may appear as a small chalky area but eventually develop into a large, brown cavitation. Though sometimes caries may be seen directly, radiographs are frequently needed...............................</a:t>
            </a:r>
            <a:endParaRPr b="0" lang="en-US" sz="2000" spc="-1" strike="noStrike">
              <a:solidFill>
                <a:srgbClr val="000000"/>
              </a:solidFill>
              <a:latin typeface="Constantia"/>
            </a:endParaRPr>
          </a:p>
          <a:p>
            <a:pPr marL="259200" indent="-259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rest of the lesson can be found in the textbook “English in Dentistry” by Natasa Milosavljevi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alky</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namel</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uccal</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pression</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ampant</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ervix</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Xerostomia</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actile</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junct</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uffering</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ansilluminatio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7646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FINITION OF DENTAL CARI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LASSIFICATION OF CARI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TIOLOGY OF CARI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GNS AND SYMPTOMS OF CARI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USES OF CARI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Give similar words to the following:</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l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m</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urit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imula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hibi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ng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eatmen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ventio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or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r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Give the opposite words to the following:</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rifi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tract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adl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tern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ccessfu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ngth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lex</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inu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vel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new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ovide  the nouns for the following adjectives:</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equen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idic</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ulnerabl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penden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riou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ron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ivar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sceptibl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us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rabl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ovide the plural form of the following nouns:</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iter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eptococu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ngiv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v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idogenes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cterium</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gu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ex</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rite a short essay:</a:t>
            </a:r>
            <a:endParaRPr b="0" lang="en-US" sz="28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e a short essay about causes and treatment of dental cari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9T20:13:16Z</dcterms:modified>
  <cp:revision>21</cp:revision>
  <dc:subject/>
  <dc:title>Slide 1</dc:title>
</cp:coreProperties>
</file>